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959-CD18-4515-9CAB-1FAB2CD2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FE3-2869-4B7A-9CAF-78B4A2C3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423-0AF3-4BBA-9A2B-1BF370CD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687-264C-4725-842E-CA601E94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A4B-0DCF-4384-B3B3-E4868BDC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0DD-50E9-4114-91B6-B2762C3E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2D0-8DBE-4092-AFA8-244B868E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666-EA46-443C-B302-911E69E3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384-8480-43F1-B086-594A11CC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752-F5A3-43AD-A023-50DB6094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E13-4441-4EF6-A4F2-ED076370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3DC-75B3-402A-948A-A4F6382A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986C-8F34-4AA5-B396-5DCBD0101BB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Climate Graph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tructing A Climate 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mate Graph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very useful in comparing the annual temperature and rainfall of places around the wor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very easy to plot and rea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imple steps below should show you how to draw one and then how to read 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raw the axis of your graph, with the months of the year along the bottom, the amount of rainfall on one axis, and the temperature on the other ax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ot on the rainfall as a bar chart, coloure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lu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ot on the temperature as a line graph, coloure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ish it off by including the follow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total rainfall for the year (add all the bars togeth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temperature range (the difference between the highest temperature and the lowest one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name of the place that the graph is f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1:23:58Z</dcterms:created>
  <dc:creator>Dell_02</dc:creator>
  <dc:description/>
  <dc:language>en-US</dc:language>
  <cp:lastModifiedBy>Dell_02</cp:lastModifiedBy>
  <dcterms:modified xsi:type="dcterms:W3CDTF">2011-01-27T21:41:27Z</dcterms:modified>
  <cp:revision>2</cp:revision>
  <dc:subject/>
  <dc:title>Climate Graphs</dc:title>
</cp:coreProperties>
</file>